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5C6F-FA09-40E7-A878-E54B71CE7D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3544-DC4F-45DB-96A2-F13A857D96C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s &amp; Meteor Sh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444D-A72E-47FA-A986-6AD9E0F8BAF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All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04E9-98F7-4B0A-9D55-AB080B94B44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Questio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rue/False: The material or element that makes up a meteor is the main factor that determines the color of the glowing trail left beh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is major meteor shower has a peak time around early/mid Augu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Gemini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Leoni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Orioni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Perse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. Perse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is the point in the sky from which all of the meteors seem to come during a shower call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adi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501D-4226-46E3-AF6C-D5D270F78A4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sep10.phys.utk.edu/astr161/lect/meteors/show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ky-watch.com/meteo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hometown.aol.com/theleonid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eocities.com/~starwanderer/meteo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eteorobs.org/show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msmeteors.org/show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7C57-9EA6-4878-B41F-9CCCBAA7A3E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oid, Meteorite, Meteor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eteor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mall, solid body moving within the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eteori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lid remains of a meteor that falls to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eteor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hooting star)- bright trail of light created by small solid particles entering the Earth’s atmosphere &amp; burning up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4CF3-7275-491F-8982-49DA2DFE5F1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s (meteoroids) are the debris associated with comets or a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meteoroid enters the Earth’s atmosphere &amp; becomes a meteor, it is traveling at 60-70 km per seco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given night (with favorable conditions), you can see 1 meteor every 1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ypical size of a meteor that produces a visible streak of light ranges from about the size of a grain of sand to the size of a small pebble! (average weight is only around 1 gram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irebal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large, brilliant meteors) are periodically seen (these may weigh up to several kilograms or more).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olid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fireballs that explode with a thunderous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94B8-D06F-4690-B768-0AEA93DD139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y do meteors have a streak of light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y travel through our atmosphere, meteors collide with air molecules that knock away materials and strip electrons from the meteo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tripped atoms recapture electrons, light is emitt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r of the light depends on the temperature and the material being “excited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8AF6-5911-463A-8D25-CBF18C2286A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all meteors the same color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terial or element that makes up a meteor is the main factor that determines the color of its glowing trail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dium = orange-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ron =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gnesium = blue-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lcium = 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ilicon =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B309-30D6-4739-99A1-964EC969A07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adic Mete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meteors that can be seen on any given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not associated with any particular meteor sh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ome from random directions in the 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4DC7-9DA7-48A1-9804-E0CD64E4A2D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Sh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vy displays of meteors that recur from year to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d by small fragments of comet debris entering the earth’s atmosphere at extremely high speeds…when the Earth’s orbit &amp; the comet’s orbit intersect at som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er meteors’ come from the same general point in the sk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adia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a shower is the point in the sky from which the meteors appear to 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4B0D-53F9-45EB-85C2-85A44C38377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Showers (cont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showers are usually named for the constellation in which their radiant lies at the peak of the showe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: Perseid shower = Pers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: Leonid shower = 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: Geminid shower = Gem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A61E-E655-4D48-8923-E2BE4503385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Meteor Show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showers occur on a regular basis throughout the year, but not all are visible in the northern latitudes  &amp; some are very weak and easily go unnotic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 more impressive showers throughout a given year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how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vg. 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Quadrantids – early Janu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yrids – mid Apr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rseids – early/mid Aug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rionids – mid/late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eonids – mid Nov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eminids – mid Dec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8D2F-9085-4F06-90F5-6A2FADE8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8596-93B5-4E16-8BC1-BB047877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57A1-DDF6-4322-B56F-C22D59A8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C495-3E77-4904-ACA5-DD2F9B5A0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8957-3C5B-41CA-8672-2EF8681A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FB22-C875-4ED6-B245-14287F0B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0B6D-4BEF-4C57-ACA0-2774CAE1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5849-39BA-4475-8A9D-0418AD8D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3FBD-8517-479B-93AA-C4B4D186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6680-7A4C-4C75-BEAA-1974C2DB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F1E6-C141-4BCD-99A3-7CCF4F29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3177-ED83-49AF-A96B-EB86239E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3189-4137-4FC9-82B9-7ACEF543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BBB0-DF9B-46A9-8C14-5DFB0E16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D5BF-F9B4-4E22-A64A-9D595CC0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D2AE-2E25-4749-AB9D-12CA421B9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229C-84B8-47A4-8B86-2365E7E77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E06A-9957-42E4-B3AA-BC131B5B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E6DB-C554-4DE8-BE17-F10B90C3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6AA1-4837-4B59-8BBC-2E4A6E58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EAF9-5185-440B-953F-4991FFBE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7022-69FB-40C3-A72B-45785887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9AC0-BA4E-42BC-AFA1-C50108FD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F33C-DD19-4EAB-8DD5-D7948C94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1B3C-AA9D-47EA-B0D8-2582953CA2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EF93-3C91-4832-8E7C-1EB4B9693C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sep10.phys.utk.edu/astr161/lect/meteors/showers.html" TargetMode="External"/><Relationship Id="rId2" Type="http://schemas.openxmlformats.org/officeDocument/2006/relationships/hyperlink" Target="http://www.sky-watch.com/meteor.html" TargetMode="External"/><Relationship Id="rId3" Type="http://schemas.openxmlformats.org/officeDocument/2006/relationships/hyperlink" Target="http://hometown.aol.com/theleonids/" TargetMode="External"/><Relationship Id="rId4" Type="http://schemas.openxmlformats.org/officeDocument/2006/relationships/hyperlink" Target="http://www.geocities.com/~starwanderer/meteor.htm" TargetMode="External"/><Relationship Id="rId5" Type="http://schemas.openxmlformats.org/officeDocument/2006/relationships/hyperlink" Target="http://www.meteorobs.org/showers.html" TargetMode="External"/><Relationship Id="rId6" Type="http://schemas.openxmlformats.org/officeDocument/2006/relationships/hyperlink" Target="http://www.amsmeteors.org/showers.html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paceweather.com/meteors/images/18nov01/varros1_movie.gif" TargetMode="External"/><Relationship Id="rId2" Type="http://schemas.openxmlformats.org/officeDocument/2006/relationships/hyperlink" Target="http://www.spaceweather.com/meteors/images/18nov01_page3/Ponder1.MP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paceweather.com/meteors/images/18nov01_page3/cordiale1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5" descr="Anderson1"/>
          <p:cNvPicPr/>
          <p:nvPr/>
        </p:nvPicPr>
        <p:blipFill>
          <a:blip r:embed="rId1"/>
          <a:srcRect l="0" t="43543" r="0" b="0"/>
          <a:stretch/>
        </p:blipFill>
        <p:spPr>
          <a:xfrm>
            <a:off x="2743200" y="380880"/>
            <a:ext cx="2743200" cy="1947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Ryan1"/>
          <p:cNvPicPr/>
          <p:nvPr/>
        </p:nvPicPr>
        <p:blipFill>
          <a:blip r:embed="rId2"/>
          <a:srcRect l="0" t="15594" r="10657" b="0"/>
          <a:stretch/>
        </p:blipFill>
        <p:spPr>
          <a:xfrm>
            <a:off x="5791320" y="380880"/>
            <a:ext cx="3352680" cy="2291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Toth1"/>
          <p:cNvPicPr/>
          <p:nvPr/>
        </p:nvPicPr>
        <p:blipFill>
          <a:blip r:embed="rId3"/>
          <a:srcRect l="17828" t="25081" r="0" b="0"/>
          <a:stretch/>
        </p:blipFill>
        <p:spPr>
          <a:xfrm>
            <a:off x="0" y="0"/>
            <a:ext cx="3505320" cy="3276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Meteors &amp; Meteor Shower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9" name="Picture 7" descr="varros2_strip_big"/>
          <p:cNvPicPr/>
          <p:nvPr/>
        </p:nvPicPr>
        <p:blipFill>
          <a:blip r:embed="rId4"/>
          <a:stretch/>
        </p:blipFill>
        <p:spPr>
          <a:xfrm>
            <a:off x="304920" y="327672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Welsh1"/>
          <p:cNvPicPr/>
          <p:nvPr/>
        </p:nvPicPr>
        <p:blipFill>
          <a:blip r:embed="rId5"/>
          <a:stretch/>
        </p:blipFill>
        <p:spPr>
          <a:xfrm>
            <a:off x="3886200" y="3048120"/>
            <a:ext cx="4952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2" descr="Larmay1"/>
          <p:cNvPicPr/>
          <p:nvPr/>
        </p:nvPicPr>
        <p:blipFill>
          <a:blip r:embed="rId1"/>
          <a:stretch/>
        </p:blipFill>
        <p:spPr>
          <a:xfrm>
            <a:off x="5448240" y="1514520"/>
            <a:ext cx="3695760" cy="5114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0" descr="Hamilton1"/>
          <p:cNvPicPr/>
          <p:nvPr/>
        </p:nvPicPr>
        <p:blipFill>
          <a:blip r:embed="rId2"/>
          <a:stretch/>
        </p:blipFill>
        <p:spPr>
          <a:xfrm>
            <a:off x="0" y="1143000"/>
            <a:ext cx="3228840" cy="52578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at’s All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0" name="Picture 12" descr="Anderson1"/>
          <p:cNvPicPr/>
          <p:nvPr/>
        </p:nvPicPr>
        <p:blipFill>
          <a:blip r:embed="rId3"/>
          <a:stretch/>
        </p:blipFill>
        <p:spPr>
          <a:xfrm>
            <a:off x="2895480" y="1752480"/>
            <a:ext cx="27432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3 Questions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True/False: The material or element that makes up a meteor is the main factor that determines the color of the glowing trail left beh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This major meteor shower has a peak time around early/mid Augus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Gemini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Leoni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Orioni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Perse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. Perse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What is the point in the sky from which all of the meteors seem to come during a shower call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adi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ferences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csep10.phys.utk.edu/astr161/lect/meteors/showers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sky-watch.com/meteor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http://hometown.aol.com/theleonid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http://www.geocities.com/~starwanderer/meteor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http://www.meteorobs.org/showers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http://www.amsmeteors.org/showers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Differences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eoroid, Meteorite, Meteor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eteoroi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mall, solid body moving within the solar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eteori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olid remains of a meteor that falls to the Ear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eteor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hooting star)- bright trail of light created by small solid particles entering the Earth’s atmosphere &amp; burning up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eteor Fac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eors (meteoroids) are the debris associated with comets or astero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a meteoroid enters the Earth’s atmosphere &amp; becomes a meteor, it is traveling at 60-70 km per secon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a given night (with favorable conditions), you can see 1 meteor every 15 minu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typical size of a meteor that produces a visible streak of light ranges from about the size of a grain of sand to the size of a small pebble! (average weight is only around 1 gram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Firebal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large, brilliant meteors) are periodically seen (these may weigh up to several kilograms or more).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olid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fireballs that explode with a thunderous sou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for yourself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spaceweather.com/meteors/images/18nov01/varros1_movie.gi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(Fireb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spaceweather.com/meteors/images/18nov01_page3/Ponder1.MP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(Bolid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Why do meteors have a streak of light?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y travel through our atmosphere, meteors collide with air molecules that knock away materials and strip electrons from the meteo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stripped atoms recapture electrons, light is emitt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lor of the light depends on the temperature and the material being “excited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re all meteors the same color?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terial or element that makes up a meteor is the main factor that determines the color of its glowing trail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odium = orange-ye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ron = ye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Magnesium = blue-gr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alcium = vio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ilicon = 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poradic Meteo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the meteors that can be seen on any given n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not associated with any particular meteor sh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ome from random directions in the s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eteor Show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y displays of meteors that recur from year to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d by small fragments of comet debris entering the earth’s atmosphere at extremely high speeds…when the Earth’s orbit &amp; the comet’s orbit intersect at some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er meteors’ come from the same general point in the sky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adia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a shower is the point in the sky from which the meteors appear to 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eteor Showers (cont.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eor showers are usually named for the constellation in which their radiant lies at the peak of the showe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.: Perseid shower = Pers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.: Leonid shower = L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.: Geminid shower = Gemi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pecific Meteor Showers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eor showers occur on a regular basis throughout the year, but not all are visible in the northern latitudes  &amp; some are very weak and easily go unnoticed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of the more impressive showers throughout a given year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how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vg. Pe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Quadrantids – early Janu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Lyrids – mid Apr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Perseids – early/mid Augu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Orionids – mid/late Octo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Leonids – mid Nove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Geminids – mid Dece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* Historically, the Perseids in August &amp; the Leonids in November have been the most impressive meteor showers -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spaceweather.com/meteors/images/18nov01_page3/cordiale1.m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02:17:23Z</dcterms:created>
  <dc:creator>s1250620</dc:creator>
  <dc:description/>
  <dc:language>en-US</dc:language>
  <cp:lastModifiedBy>RomaK</cp:lastModifiedBy>
  <dcterms:modified xsi:type="dcterms:W3CDTF">2015-07-31T22:47:23Z</dcterms:modified>
  <cp:revision>37</cp:revision>
  <dc:subject/>
  <dc:title>Meteor Showers</dc:title>
</cp:coreProperties>
</file>